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FB2F-8FAE-4D25-923D-74C91982B4E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0859-DB49-4841-A335-97453B9956D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231-AC4B-4489-8420-4609100B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032-88C4-4779-8517-EF82BF38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A09-D0D0-408D-9112-64FF901C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6AE-13A0-45EF-BC09-4C238B6A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9C7-5996-41FA-AFB6-80D7DF61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3D1-7862-4AD5-818C-279E0598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021-31F9-4DE1-B91C-86CC8011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C26-19D3-4F97-BEE5-845201AE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279-F173-4535-B634-54416804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0DD-96D7-4FFA-9CB3-252A659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00F-3EF3-41F2-99C3-692502DA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7DB-F92E-4621-93AF-E3EB93F3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608C-6AEE-494F-AD4B-AE6075C91608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Painting%20Faces%20with%20Photos.doc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28592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dor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my Minja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anglesey.info/1416%20House.jpg"/>
          <p:cNvPicPr/>
          <p:nvPr/>
        </p:nvPicPr>
        <p:blipFill>
          <a:blip r:embed="rId1"/>
          <a:stretch/>
        </p:blipFill>
        <p:spPr>
          <a:xfrm>
            <a:off x="4714920" y="1928880"/>
            <a:ext cx="38671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push pull window.jpeg"/>
          <p:cNvPicPr/>
          <p:nvPr/>
        </p:nvPicPr>
        <p:blipFill>
          <a:blip r:embed="rId1"/>
          <a:stretch/>
        </p:blipFill>
        <p:spPr>
          <a:xfrm>
            <a:off x="285840" y="14288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5357880" y="16430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ush pull tool. Then pull the window as far as you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window lines.jpeg"/>
          <p:cNvPicPr/>
          <p:nvPr/>
        </p:nvPicPr>
        <p:blipFill>
          <a:blip r:embed="rId1"/>
          <a:stretch/>
        </p:blipFill>
        <p:spPr>
          <a:xfrm>
            <a:off x="285840" y="14288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5143680" y="157176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line tool and draw 5 long rectangles along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house liness.jpeg"/>
          <p:cNvPicPr/>
          <p:nvPr/>
        </p:nvPicPr>
        <p:blipFill>
          <a:blip r:embed="rId1"/>
          <a:stretch/>
        </p:blipFill>
        <p:spPr>
          <a:xfrm>
            <a:off x="285840" y="13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5357880" y="164304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keep the line tool and make lines like these over her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its to hard then its ok if you don’t d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tudorhousewindow1.jpeg"/>
          <p:cNvPicPr/>
          <p:nvPr/>
        </p:nvPicPr>
        <p:blipFill>
          <a:blip r:embed="rId1"/>
          <a:stretch/>
        </p:blipFill>
        <p:spPr>
          <a:xfrm>
            <a:off x="214200" y="14288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5000760" y="1500120"/>
            <a:ext cx="378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you need a door to get into the house so you follow the same tutorial in step 8 but with a 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if you want a window next to your door you can do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8" descr="2ndhousetraingle.jpeg"/>
          <p:cNvPicPr/>
          <p:nvPr/>
        </p:nvPicPr>
        <p:blipFill>
          <a:blip r:embed="rId1"/>
          <a:stretch/>
        </p:blipFill>
        <p:spPr>
          <a:xfrm>
            <a:off x="21420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5214960" y="157176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go to the other part of the house and select the line tool and draw a little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ush/pull tool and drag the triangle all the way to the other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2ndhouserectangle.jpeg"/>
          <p:cNvPicPr/>
          <p:nvPr/>
        </p:nvPicPr>
        <p:blipFill>
          <a:blip r:embed="rId1"/>
          <a:stretch/>
        </p:blipFill>
        <p:spPr>
          <a:xfrm>
            <a:off x="214200" y="17859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5000760" y="178596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line tool and make a long rect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erase liness.jpeg"/>
          <p:cNvPicPr/>
          <p:nvPr/>
        </p:nvPicPr>
        <p:blipFill>
          <a:blip r:embed="rId1"/>
          <a:stretch/>
        </p:blipFill>
        <p:spPr>
          <a:xfrm>
            <a:off x="214200" y="15001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5072040" y="17859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rase tool and erase the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6" descr="tudourhousewindowanddoor.jpeg"/>
          <p:cNvPicPr/>
          <p:nvPr/>
        </p:nvPicPr>
        <p:blipFill>
          <a:blip r:embed="rId1"/>
          <a:stretch/>
        </p:blipFill>
        <p:spPr>
          <a:xfrm>
            <a:off x="357120" y="15001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5072040" y="1571760"/>
            <a:ext cx="385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use the orbit tool to turn the house a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you want to put the door and window. You use the same tutorial to put these on. The tutorials on step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5" descr="toplevelwindow.jpeg"/>
          <p:cNvPicPr/>
          <p:nvPr/>
        </p:nvPicPr>
        <p:blipFill>
          <a:blip r:embed="rId1"/>
          <a:stretch/>
        </p:blipFill>
        <p:spPr>
          <a:xfrm>
            <a:off x="14292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4929120" y="178596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tutorial for this window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lines2.jpeg"/>
          <p:cNvPicPr/>
          <p:nvPr/>
        </p:nvPicPr>
        <p:blipFill>
          <a:blip r:embed="rId1"/>
          <a:stretch/>
        </p:blipFill>
        <p:spPr>
          <a:xfrm>
            <a:off x="285840" y="15001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5286240" y="164304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line tool and draw three long rectang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other 4 lines on the other side of th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another2lines.jpeg"/>
          <p:cNvPicPr/>
          <p:nvPr/>
        </p:nvPicPr>
        <p:blipFill>
          <a:blip r:embed="rId2"/>
          <a:stretch/>
        </p:blipFill>
        <p:spPr>
          <a:xfrm>
            <a:off x="5429160" y="300024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2 rectanglesss.jpeg"/>
          <p:cNvPicPr/>
          <p:nvPr/>
        </p:nvPicPr>
        <p:blipFill>
          <a:blip r:embed="rId1"/>
          <a:stretch/>
        </p:blipFill>
        <p:spPr>
          <a:xfrm>
            <a:off x="428760" y="1214280"/>
            <a:ext cx="4525920" cy="452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214960" y="15001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rectangle tool and draw 2 rect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3" descr="cross.jpeg"/>
          <p:cNvPicPr/>
          <p:nvPr/>
        </p:nvPicPr>
        <p:blipFill>
          <a:blip r:embed="rId1"/>
          <a:stretch/>
        </p:blipFill>
        <p:spPr>
          <a:xfrm>
            <a:off x="35712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5286240" y="171468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orbit tool and go onto this part of th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use the line tool and draw a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3" descr="lineslineslines.jpeg"/>
          <p:cNvPicPr/>
          <p:nvPr/>
        </p:nvPicPr>
        <p:blipFill>
          <a:blip r:embed="rId1"/>
          <a:stretch/>
        </p:blipFill>
        <p:spPr>
          <a:xfrm>
            <a:off x="428760" y="15001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5214960" y="157176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line tool and draw all these lines. If you want the lines to dissapear hold the shift key and click at the same time with the erase t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linesontheothersideofthehouse.jpeg"/>
          <p:cNvPicPr/>
          <p:nvPr/>
        </p:nvPicPr>
        <p:blipFill>
          <a:blip r:embed="rId1"/>
          <a:stretch/>
        </p:blipFill>
        <p:spPr>
          <a:xfrm>
            <a:off x="571680" y="16430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5357880" y="17859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line tool again and go onto the other side of the house again and draw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backofthehouselines.jpeg"/>
          <p:cNvPicPr/>
          <p:nvPr/>
        </p:nvPicPr>
        <p:blipFill>
          <a:blip r:embed="rId1"/>
          <a:stretch/>
        </p:blipFill>
        <p:spPr>
          <a:xfrm>
            <a:off x="35712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286240" y="17146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go to the back of the house and draw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forring.jpeg"/>
          <p:cNvPicPr/>
          <p:nvPr/>
        </p:nvPicPr>
        <p:blipFill>
          <a:blip r:embed="rId1"/>
          <a:stretch/>
        </p:blipFill>
        <p:spPr>
          <a:xfrm>
            <a:off x="42876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286240" y="178596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aint bucket tool and then go into the roofing and choose a roofing and paint the roo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brown.jpeg"/>
          <p:cNvPicPr/>
          <p:nvPr/>
        </p:nvPicPr>
        <p:blipFill>
          <a:blip r:embed="rId1"/>
          <a:stretch/>
        </p:blipFill>
        <p:spPr>
          <a:xfrm>
            <a:off x="285840" y="16430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143680" y="185724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aint bucket tool and go into the colours category and fill in all the lines, of the front, back and the sides of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3" descr="finishedhouse.jpeg"/>
          <p:cNvPicPr/>
          <p:nvPr/>
        </p:nvPicPr>
        <p:blipFill>
          <a:blip r:embed="rId1"/>
          <a:stretch/>
        </p:blipFill>
        <p:spPr>
          <a:xfrm>
            <a:off x="50004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429160" y="1714680"/>
            <a:ext cx="350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aint bucket and go under bricks and cladding and choose any bricks you want and fill in the white sp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ush pull.jpeg"/>
          <p:cNvPicPr/>
          <p:nvPr/>
        </p:nvPicPr>
        <p:blipFill>
          <a:blip r:embed="rId1"/>
          <a:stretch/>
        </p:blipFill>
        <p:spPr>
          <a:xfrm>
            <a:off x="357120" y="13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214960" y="1500120"/>
            <a:ext cx="28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ush/pull tool and pull the rectangles up to a reasonable he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triangle.jpeg"/>
          <p:cNvPicPr/>
          <p:nvPr/>
        </p:nvPicPr>
        <p:blipFill>
          <a:blip r:embed="rId1"/>
          <a:stretch/>
        </p:blipFill>
        <p:spPr>
          <a:xfrm>
            <a:off x="214200" y="1285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214960" y="1500120"/>
            <a:ext cx="314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072040" y="150012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line tool, and from the left edge make a triangle sha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triangle push pull.jpeg"/>
          <p:cNvPicPr/>
          <p:nvPr/>
        </p:nvPicPr>
        <p:blipFill>
          <a:blip r:embed="rId1"/>
          <a:stretch/>
        </p:blipFill>
        <p:spPr>
          <a:xfrm>
            <a:off x="357120" y="13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143680" y="1500120"/>
            <a:ext cx="378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rotate with the orbit tool to the back of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ush/pull tool and click the triangle and drag it along till it’s the same length as the back of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5" descr="other end triangle draw.jpeg"/>
          <p:cNvPicPr/>
          <p:nvPr/>
        </p:nvPicPr>
        <p:blipFill>
          <a:blip r:embed="rId1"/>
          <a:stretch/>
        </p:blipFill>
        <p:spPr>
          <a:xfrm>
            <a:off x="285840" y="1285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5286240" y="1428840"/>
            <a:ext cx="36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orbit tool and rotate it until you’re facing the other end of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line tool and do the same thing to make a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other end triangle draw push pull.jpeg"/>
          <p:cNvPicPr/>
          <p:nvPr/>
        </p:nvPicPr>
        <p:blipFill>
          <a:blip r:embed="rId1"/>
          <a:stretch/>
        </p:blipFill>
        <p:spPr>
          <a:xfrm>
            <a:off x="214200" y="1285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5000760" y="1500120"/>
            <a:ext cx="378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ush/pull tool and click on the triangle and pull it until the top of the triangle touches the other triangle. As you can see here I haven't really made it touch the other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lines on the houses.jpeg"/>
          <p:cNvPicPr/>
          <p:nvPr/>
        </p:nvPicPr>
        <p:blipFill>
          <a:blip r:embed="rId1"/>
          <a:stretch/>
        </p:blipFill>
        <p:spPr>
          <a:xfrm>
            <a:off x="357120" y="14288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429160" y="157176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raw lines with the line tool to make it look like a Tudor house. (if you Google up some Tudor houses there are some lines and crosses on the hou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tudor house window.jpeg"/>
          <p:cNvPicPr/>
          <p:nvPr/>
        </p:nvPicPr>
        <p:blipFill>
          <a:blip r:embed="rId1"/>
          <a:stretch/>
        </p:blipFill>
        <p:spPr>
          <a:xfrm>
            <a:off x="285840" y="13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5357880" y="157176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 you cut out a window from a picture and paste it onto your ho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don’t know how to here is the tutori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500800" y="3643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Click here to go to the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2:03Z</dcterms:created>
  <dc:creator>Diocesan School for Girls</dc:creator>
  <dc:description/>
  <dc:language>en-US</dc:language>
  <cp:lastModifiedBy>Diocesan School for Girls</cp:lastModifiedBy>
  <dcterms:modified xsi:type="dcterms:W3CDTF">2009-09-04T00:21:26Z</dcterms:modified>
  <cp:revision>29</cp:revision>
  <dc:subject/>
  <dc:title>Slide 1</dc:title>
</cp:coreProperties>
</file>